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54A-A607-48F4-ADD8-862873EC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C1C-9B9B-4A66-B919-6D18D1E2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DA0-B801-4E61-ACAE-5D796A095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2AF-9BBD-4310-BD10-CBFD97B4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590C-16C1-4C3F-8106-DC1C6412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E1A-DFCC-4CB7-AA80-8AC5EA4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15A-81AE-417B-AB2E-115A160D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DDF-7606-4E0B-8339-CDE8FAD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DFEA-EF9E-49CD-BD33-2DE44B8D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9B3-069C-47CE-88A0-C99CDB8C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317-3523-41B0-8FFB-0650CBA9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77E-83B5-4BEA-A0E8-B54BAB5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EB8D-C319-4DB2-9CAC-D11BE8523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Arial"/>
              </a:rPr>
              <a:t>Les Adjectifs Possessif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sentation par Mlle. Sm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a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on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a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e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on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es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on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a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tr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tre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N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tre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tre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V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ur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t 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Leurs</a:t>
            </a: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avec 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4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  <p:to>
                                        <p:strVal val="1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17:06:25Z</dcterms:created>
  <dc:creator>asmith</dc:creator>
  <dc:description/>
  <dc:language>en-US</dc:language>
  <cp:lastModifiedBy>asmith</cp:lastModifiedBy>
  <dcterms:modified xsi:type="dcterms:W3CDTF">2012-04-18T17:27:10Z</dcterms:modified>
  <cp:revision>2</cp:revision>
  <dc:subject/>
  <dc:title>Mon Ma  Mes </dc:title>
</cp:coreProperties>
</file>